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5.png" ContentType="image/png"/>
  <Override PartName="/ppt/media/image8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4.jpeg" ContentType="image/jpeg"/>
  <Override PartName="/ppt/media/image3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6.jpeg" ContentType="image/jpe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C3AA-ED59-41F8-BF1B-5FF095F36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BDBA-E864-4895-AC5A-4F36D7A2C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EF45-CA71-48E4-B0A6-0A92ECEF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5C8-C774-4BBE-BA90-A5ED25D2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E32-851F-4750-BB1A-AC56BF20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D2F2-5304-4063-999E-D2A2EDEA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9822-9305-4B27-BCCE-373DA4E3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D7E4-B8EF-4172-A463-354780D7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6D73-82E8-4644-A5B8-B43E6FCF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C3D1-DE08-41B3-96DC-2FB64AA4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1F7-BBC8-4050-835D-C5BD6F56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E0A-56DE-4EF5-9FCE-9BBAF822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1CF1-BE26-4711-A9D2-FD5859F0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FD0-4A60-4C3C-8E6A-492C8D08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0494-A651-4A02-9DA5-95F5B534D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digsdigs.com/photos/simple-and-colorful-bathroom-design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xteriortohomedesign.com/wp-content/uploads/2010/11/beautiful-dining-room-by-cattelan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hyperlink" Target="http://www.digsdigs.com/photos/teen-room-15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www.digsdigs.com/photos/light-blue-bahtroom-design.jpg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8"/>
          <p:cNvSpPr txBox="1"/>
          <p:nvPr/>
        </p:nvSpPr>
        <p:spPr>
          <a:xfrm>
            <a:off x="1905120" y="457200"/>
            <a:ext cx="5181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a Casa de mi Suen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1523880" y="5486400"/>
            <a:ext cx="48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r: Olivia Francis-Anspac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FUTURE_Office_Furniture"/>
          <p:cNvPicPr/>
          <p:nvPr/>
        </p:nvPicPr>
        <p:blipFill>
          <a:blip r:embed="rId2"/>
          <a:stretch/>
        </p:blipFill>
        <p:spPr>
          <a:xfrm>
            <a:off x="1981080" y="1219320"/>
            <a:ext cx="4876920" cy="346392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1494000" y="23760"/>
            <a:ext cx="5771880" cy="125568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685800" y="4800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 oficina es blanca y negra y muy moderna. No tiene mucho. Tiene un estante, un mesa, un escritorio, y dos sillas. Tambien tiene un portát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ww.digsdigs.com/photos/amazing-poolside-area-designs-2-554x362.jpg"/>
          <p:cNvPicPr/>
          <p:nvPr/>
        </p:nvPicPr>
        <p:blipFill>
          <a:blip r:embed="rId2"/>
          <a:stretch/>
        </p:blipFill>
        <p:spPr>
          <a:xfrm>
            <a:off x="4267080" y="3581280"/>
            <a:ext cx="4648320" cy="3036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digsdigs.com/photos/amazing-poolside-area-designs-7-554x389.jpg"/>
          <p:cNvPicPr/>
          <p:nvPr/>
        </p:nvPicPr>
        <p:blipFill>
          <a:blip r:embed="rId3"/>
          <a:stretch/>
        </p:blipFill>
        <p:spPr>
          <a:xfrm>
            <a:off x="228600" y="990720"/>
            <a:ext cx="4191120" cy="294300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6" descr=""/>
          <p:cNvPicPr/>
          <p:nvPr/>
        </p:nvPicPr>
        <p:blipFill>
          <a:blip r:embed="rId4"/>
          <a:stretch/>
        </p:blipFill>
        <p:spPr>
          <a:xfrm>
            <a:off x="1347840" y="-182520"/>
            <a:ext cx="5754600" cy="1206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4572000" y="10666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mi piscina exterior. La piscina está detrás de mi casa. Es muy muy grande.  Tiene luces azul y blanco, árboles, sillas, y mesas. Tambien tiene un cubie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80880" y="47242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mi piscina interior.  Está en mi casa. Está es el primer piso. Tiene luces blanco, sillas, y un sofá naranjo y az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Blue Laundry Room Design"/>
          <p:cNvPicPr/>
          <p:nvPr/>
        </p:nvPicPr>
        <p:blipFill>
          <a:blip r:embed="rId1"/>
          <a:stretch/>
        </p:blipFill>
        <p:spPr>
          <a:xfrm>
            <a:off x="304920" y="1371600"/>
            <a:ext cx="5153040" cy="466740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4" descr=""/>
          <p:cNvPicPr/>
          <p:nvPr/>
        </p:nvPicPr>
        <p:blipFill>
          <a:blip r:embed="rId2"/>
          <a:stretch/>
        </p:blipFill>
        <p:spPr>
          <a:xfrm>
            <a:off x="407880" y="-171360"/>
            <a:ext cx="8266320" cy="109836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5791320" y="1676520"/>
            <a:ext cx="2971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mi cuarto de lavado. Es azul y blanco. Tiene gabinetes azules, un fregadero, un relo verde, un espejo, una lavadora, un secador, y toalles blan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contemporary-furniture-tv-decorate"/>
          <p:cNvPicPr/>
          <p:nvPr/>
        </p:nvPicPr>
        <p:blipFill>
          <a:blip r:embed="rId1"/>
          <a:stretch/>
        </p:blipFill>
        <p:spPr>
          <a:xfrm>
            <a:off x="1447920" y="1066680"/>
            <a:ext cx="5562360" cy="330372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4" descr=""/>
          <p:cNvPicPr/>
          <p:nvPr/>
        </p:nvPicPr>
        <p:blipFill>
          <a:blip r:embed="rId2"/>
          <a:stretch/>
        </p:blipFill>
        <p:spPr>
          <a:xfrm>
            <a:off x="695160" y="-42840"/>
            <a:ext cx="7790040" cy="12747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533520" y="4343400"/>
            <a:ext cx="815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mi sala de televi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.  Es blanca  y negro. Mi sala de televi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Vani"/>
              </a:rPr>
              <a:t>ón tiene un mesa negro, una lámpara blanca, una televisión mag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ífico, una estante de libros muy grande, y un sofá blanco con almohadas blancas y neg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my big house"/>
          <p:cNvPicPr/>
          <p:nvPr/>
        </p:nvPicPr>
        <p:blipFill>
          <a:blip r:embed="rId2"/>
          <a:srcRect l="0" t="40955" r="50402" b="12862"/>
          <a:stretch/>
        </p:blipFill>
        <p:spPr>
          <a:xfrm>
            <a:off x="1828800" y="1295280"/>
            <a:ext cx="4800600" cy="335304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4" descr=""/>
          <p:cNvPicPr/>
          <p:nvPr/>
        </p:nvPicPr>
        <p:blipFill>
          <a:blip r:embed="rId3"/>
          <a:stretch/>
        </p:blipFill>
        <p:spPr>
          <a:xfrm>
            <a:off x="1590840" y="-274680"/>
            <a:ext cx="5376600" cy="148104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457200" y="48769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i Garaje está circa de mi casa. Mi garaje es café y tiene tres coches. Tambien tiene lu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y big house"/>
          <p:cNvPicPr/>
          <p:nvPr/>
        </p:nvPicPr>
        <p:blipFill>
          <a:blip r:embed="rId1"/>
          <a:stretch/>
        </p:blipFill>
        <p:spPr>
          <a:xfrm>
            <a:off x="1523880" y="2286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33520" y="4267080"/>
            <a:ext cx="79246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casa de mi su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ño está localizada en Nueva York en Los Estados Unidos. Tiene tres pisos. Mi casa tiene siete dormitorios, una oficina,  salas, una cuarto de musica, una sala de televisión, cuatro ba</a:t>
            </a:r>
            <a:r>
              <a:rPr b="0" lang="en-US" sz="2200" spc="-1" strike="noStrike">
                <a:solidFill>
                  <a:srgbClr val="000000"/>
                </a:solidFill>
                <a:latin typeface="Vani"/>
              </a:rPr>
              <a:t>ño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na yarda muy grande, dos cuartos de sol, un porche, una garaje, una cuarto de lavado, una piscina externo, y una piscina interior. En mi casa vive yo y mis amigas buenas, Ashee y Alea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 rot="20012400">
            <a:off x="311040" y="-154080"/>
            <a:ext cx="6159600" cy="14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1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6990000"/>
                </a:gradFill>
                <a:latin typeface="Impact"/>
              </a:rPr>
              <a:t>Mi Dormitori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6990000"/>
              </a:gradFill>
              <a:latin typeface="Impact"/>
              <a:ea typeface="Impact"/>
            </a:endParaRPr>
          </a:p>
        </p:txBody>
      </p:sp>
      <p:pic>
        <p:nvPicPr>
          <p:cNvPr id="53" name="Picture 10" descr="Awesome-Adorable-And-Cheerful-Trendy-Teenage-Bedroom-Design-Idea-With-Stylish-Blue-Color"/>
          <p:cNvPicPr/>
          <p:nvPr/>
        </p:nvPicPr>
        <p:blipFill>
          <a:blip r:embed="rId1"/>
          <a:srcRect l="2452" t="0" r="0" b="0"/>
          <a:stretch/>
        </p:blipFill>
        <p:spPr>
          <a:xfrm>
            <a:off x="3352680" y="1295280"/>
            <a:ext cx="5454720" cy="40388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457200" y="502920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304920" y="1763640"/>
            <a:ext cx="304776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 dormitorio es en el segundo piso. Es azul y blanco. Tiene una cama con tres almohadas y una manta blanco. Tambien tiene un estante de libros, una lámpara, y un escritorio con una portátil. En mis estantes, son fotos y un radi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3" descr=""/>
          <p:cNvPicPr/>
          <p:nvPr/>
        </p:nvPicPr>
        <p:blipFill>
          <a:blip r:embed="rId1"/>
          <a:stretch/>
        </p:blipFill>
        <p:spPr>
          <a:xfrm>
            <a:off x="1023840" y="66600"/>
            <a:ext cx="7034400" cy="1244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http://www.digsdigs.com/photos/simple-and-colorful-bathroom-desig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1143000"/>
            <a:ext cx="4114800" cy="5481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9"/>
          <p:cNvSpPr/>
          <p:nvPr/>
        </p:nvSpPr>
        <p:spPr>
          <a:xfrm>
            <a:off x="304920" y="1219320"/>
            <a:ext cx="42670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 cuarto de b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ño es azul y café. Tiene un contador ca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é, dos fregaderos, un retrete, una ducha, y una alfombrilla muy mag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ífica y azul, ca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é, y blanca. Tambien tiene un espejo y gabenites blanc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5" descr=""/>
          <p:cNvPicPr/>
          <p:nvPr/>
        </p:nvPicPr>
        <p:blipFill>
          <a:blip r:embed="rId1"/>
          <a:stretch/>
        </p:blipFill>
        <p:spPr>
          <a:xfrm>
            <a:off x="2189160" y="-225360"/>
            <a:ext cx="4589640" cy="124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Big Beautiful Kitchen"/>
          <p:cNvPicPr/>
          <p:nvPr/>
        </p:nvPicPr>
        <p:blipFill>
          <a:blip r:embed="rId2"/>
          <a:stretch/>
        </p:blipFill>
        <p:spPr>
          <a:xfrm>
            <a:off x="1676520" y="990720"/>
            <a:ext cx="5790960" cy="4176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990720" y="5257800"/>
            <a:ext cx="716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 cocina es muy moderna. Es en el primero piso. Tiene un fregadero, un horno, una nevera, y un cont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Rectangle 6" descr=""/>
          <p:cNvPicPr/>
          <p:nvPr/>
        </p:nvPicPr>
        <p:blipFill>
          <a:blip r:embed="rId1"/>
          <a:stretch/>
        </p:blipFill>
        <p:spPr>
          <a:xfrm>
            <a:off x="1901880" y="-171360"/>
            <a:ext cx="4809960" cy="109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beautiful dining room by cattelan Beautiful Dining Room Collection By Cattelan">
            <a:hlinkClick r:id="rId2"/>
          </p:cNvPr>
          <p:cNvPicPr/>
          <p:nvPr/>
        </p:nvPicPr>
        <p:blipFill>
          <a:blip r:embed="rId3"/>
          <a:srcRect l="12386" t="13416" r="0" b="0"/>
          <a:stretch/>
        </p:blipFill>
        <p:spPr>
          <a:xfrm>
            <a:off x="1219320" y="838080"/>
            <a:ext cx="6705360" cy="4078440"/>
          </a:xfrm>
          <a:prstGeom prst="rect">
            <a:avLst/>
          </a:prstGeom>
          <a:ln w="0">
            <a:noFill/>
          </a:ln>
        </p:spPr>
      </p:pic>
      <p:sp>
        <p:nvSpPr>
          <p:cNvPr id="64" name="TextBox 8"/>
          <p:cNvSpPr/>
          <p:nvPr/>
        </p:nvSpPr>
        <p:spPr>
          <a:xfrm>
            <a:off x="685800" y="495288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 comedor es en el primero piso. Tiene una mesa de vidrio, una estante con una lámpara, y dos sillas anaranj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5" descr=""/>
          <p:cNvPicPr/>
          <p:nvPr/>
        </p:nvPicPr>
        <p:blipFill>
          <a:blip r:embed="rId2"/>
          <a:stretch/>
        </p:blipFill>
        <p:spPr>
          <a:xfrm>
            <a:off x="-92160" y="171360"/>
            <a:ext cx="9790200" cy="111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Teen Room">
            <a:hlinkClick r:id="rId3"/>
          </p:cNvPr>
          <p:cNvPicPr/>
          <p:nvPr/>
        </p:nvPicPr>
        <p:blipFill>
          <a:blip r:embed="rId4"/>
          <a:srcRect l="0" t="10245" r="4694" b="5205"/>
          <a:stretch/>
        </p:blipFill>
        <p:spPr>
          <a:xfrm>
            <a:off x="228600" y="1066680"/>
            <a:ext cx="3809880" cy="3751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http://www.digsdigs.com/photos/light-blue-bahtroom-desig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43400" y="11430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267080" y="4648320"/>
            <a:ext cx="441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 la cuarto de b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ño de Aleah. Es azul y blanco. Tiene un espejo, dos fregederos, un retrete blanco, y una b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ñera azul y blanca. Tambien tiene una alfombra de baño blanco y una venta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28600" y="4800600"/>
            <a:ext cx="3886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s el dormitorio de Aleah. Es morado y blanco. Tiene dos camas, un gabinite, un estante de libros, un escritorio, una silla, y una ventana.Tambien tiene una alfombra morad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www.digsdigs.com/photos/bright-blue-bahtroom.jpg"/>
          <p:cNvPicPr/>
          <p:nvPr/>
        </p:nvPicPr>
        <p:blipFill>
          <a:blip r:embed="rId2"/>
          <a:stretch/>
        </p:blipFill>
        <p:spPr>
          <a:xfrm>
            <a:off x="5257800" y="3780000"/>
            <a:ext cx="3657600" cy="281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bedroom-deco-02"/>
          <p:cNvPicPr/>
          <p:nvPr/>
        </p:nvPicPr>
        <p:blipFill>
          <a:blip r:embed="rId3"/>
          <a:stretch/>
        </p:blipFill>
        <p:spPr>
          <a:xfrm>
            <a:off x="304920" y="838080"/>
            <a:ext cx="4495680" cy="3110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0" y="3962520"/>
            <a:ext cx="4952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el dormitori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mi amiga muy buena, Ashee. Es roja, naranja, y blanca. Tiene una cama rojs, blanca, y naranja, un estante con fotos, un estante de libros, un escritorio, una silla, una lambara, un armario, y una vet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27" descr=""/>
          <p:cNvPicPr/>
          <p:nvPr/>
        </p:nvPicPr>
        <p:blipFill>
          <a:blip r:embed="rId4"/>
          <a:stretch/>
        </p:blipFill>
        <p:spPr>
          <a:xfrm>
            <a:off x="-311040" y="-109440"/>
            <a:ext cx="9759960" cy="1322280"/>
          </a:xfrm>
          <a:prstGeom prst="rect">
            <a:avLst/>
          </a:prstGeom>
          <a:ln w="0">
            <a:noFill/>
          </a:ln>
        </p:spPr>
      </p:pic>
      <p:sp>
        <p:nvSpPr>
          <p:cNvPr id="74" name="TextBox 28"/>
          <p:cNvSpPr/>
          <p:nvPr/>
        </p:nvSpPr>
        <p:spPr>
          <a:xfrm>
            <a:off x="5029200" y="914400"/>
            <a:ext cx="3809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el baño de Ashee. Es azul y blanco. El baño de Ashee tiene un fregadero, un espejo,  una bañera , y una duc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Rectangle 3" descr=""/>
          <p:cNvPicPr/>
          <p:nvPr/>
        </p:nvPicPr>
        <p:blipFill>
          <a:blip r:embed="rId1"/>
          <a:stretch/>
        </p:blipFill>
        <p:spPr>
          <a:xfrm>
            <a:off x="1146240" y="-171360"/>
            <a:ext cx="6718320" cy="1098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www.fabric8.com/11/01/images/music_room.jpg"/>
          <p:cNvPicPr/>
          <p:nvPr/>
        </p:nvPicPr>
        <p:blipFill>
          <a:blip r:embed="rId2"/>
          <a:stretch/>
        </p:blipFill>
        <p:spPr>
          <a:xfrm>
            <a:off x="1752480" y="990720"/>
            <a:ext cx="5037120" cy="3733560"/>
          </a:xfrm>
          <a:prstGeom prst="rect">
            <a:avLst/>
          </a:prstGeom>
          <a:ln w="0">
            <a:noFill/>
          </a:ln>
        </p:spPr>
      </p:pic>
      <p:sp>
        <p:nvSpPr>
          <p:cNvPr id="77" name="TextBox 6"/>
          <p:cNvSpPr/>
          <p:nvPr/>
        </p:nvSpPr>
        <p:spPr>
          <a:xfrm>
            <a:off x="533520" y="48769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 mi sala de musica. Tiene  tres guitarras, un piano, un sofá café, y batería. Tambien tiene una ventana muy grande y fotos en el p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45:40Z</dcterms:created>
  <dc:creator>francisanspacholi</dc:creator>
  <dc:description/>
  <dc:language>en-US</dc:language>
  <cp:lastModifiedBy>Computer</cp:lastModifiedBy>
  <dcterms:modified xsi:type="dcterms:W3CDTF">2012-05-25T00:59:50Z</dcterms:modified>
  <cp:revision>31</cp:revision>
  <dc:subject/>
  <dc:title>Slide 1</dc:title>
</cp:coreProperties>
</file>